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pct" ContentType="image/x-pict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3520-3926-4E82-A672-FAF1D1110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A7FB-EF9A-4EFB-9A58-7D0B850F5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BA2F-BFE6-47AB-B321-A3EAE024C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6BC5-84D6-41F1-A169-FD138B778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4C9A-7D6F-45DB-9DF1-01424CD3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8B90-03FD-4B16-9778-8F9AE2CF3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92B5-5F40-4479-B3FF-ECE8B52A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D17-00E6-4F1B-A8DD-F055BC62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6EB-C02E-4C36-AC4B-580B17D4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2BD-95F8-4A25-834A-13BCDC39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658C-D496-43FD-BFB0-E8EEC564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DEC-68DA-4D25-B1A2-C72C8D40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8B1-1692-4B23-8E22-2D1D79DA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A6F-879B-4597-B9F6-CC359BCF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77B-BFE9-4DA4-8AB0-7BB27E1B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E9F0-37F2-49D3-AF66-4E0D9F8B1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ct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image" Target="../media/image5.png"/><Relationship Id="rId6" Type="http://schemas.openxmlformats.org/officeDocument/2006/relationships/image" Target="../media/image6.pct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51" name=""/>
          <p:cNvSpPr/>
          <p:nvPr/>
        </p:nvSpPr>
        <p:spPr>
          <a:xfrm>
            <a:off x="609480" y="216216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king Animal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ls to Human Dise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5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19320" y="3379680"/>
            <a:ext cx="594360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03880" y="184320"/>
            <a:ext cx="268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holo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sencepha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59120" y="1681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97760" y="184320"/>
            <a:ext cx="1780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Zebraf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ep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839080" y="167652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7631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2012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380880" y="1397160"/>
          <a:ext cx="8382240" cy="413064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Data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3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assigned human ortholo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ne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ZFIN muta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FIN mutants with OMIM lin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rresponding human ge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osophila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omologs of these 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-121320" y="474840"/>
            <a:ext cx="9259560" cy="68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121320" y="474840"/>
            <a:ext cx="9259560" cy="67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lving AO differences between ZFIN and 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1828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rt_stage      (where stages are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_stag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in separat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2 …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31840"/>
                <a:tab algn="l" pos="50976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par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754640" y="188604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69320" y="1886040"/>
            <a:ext cx="21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37720" y="188604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1320" y="18860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51720" y="190512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81640" y="39736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94520" y="399240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56240" y="399240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1640" y="11430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59040" y="11430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631200" y="11430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28640" y="330660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2000" y="3306600"/>
            <a:ext cx="187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182680"/>
            <a:ext cx="31240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lissa Haen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ug Ho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rik Segerd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erra Tay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182680"/>
            <a:ext cx="3733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icael Ashbu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chel Drysd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orge Gko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4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65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676520" y="1828800"/>
            <a:ext cx="3047760" cy="327672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09680" y="1752480"/>
            <a:ext cx="19051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09680" y="2133360"/>
            <a:ext cx="152640" cy="75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4572000"/>
            <a:ext cx="21337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267080" y="4419720"/>
            <a:ext cx="15264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2600" y="2743200"/>
            <a:ext cx="189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952880" y="335268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5105520"/>
            <a:ext cx="144792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8040" y="4648320"/>
            <a:ext cx="198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473040" y="474840"/>
            <a:ext cx="9963360" cy="66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atomical Ontology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TO clean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itial curation of fish phenotypes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rtable database for research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ToL - taxonomy &amp; phylogen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rator interface developme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under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ial curation of ZFIN &amp; FlyBa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ublications + OMI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(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33520" y="85716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37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pported by NIH P41 HG002659 and U54 HG0040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334200" y="961920"/>
            <a:ext cx="1819080" cy="685800"/>
            <a:chOff x="6334200" y="961920"/>
            <a:chExt cx="1819080" cy="685800"/>
          </a:xfrm>
        </p:grpSpPr>
        <p:sp>
          <p:nvSpPr>
            <p:cNvPr id="239" name=""/>
            <p:cNvSpPr/>
            <p:nvPr/>
          </p:nvSpPr>
          <p:spPr>
            <a:xfrm>
              <a:off x="6334200" y="961920"/>
              <a:ext cx="1752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5"/>
            <a:stretch/>
          </p:blipFill>
          <p:spPr>
            <a:xfrm>
              <a:off x="6334200" y="1022400"/>
              <a:ext cx="1819080" cy="563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pic>
        <p:nvPicPr>
          <p:cNvPr id="241" name="" descr=""/>
          <p:cNvPicPr/>
          <p:nvPr/>
        </p:nvPicPr>
        <p:blipFill>
          <a:blip r:embed="rId6"/>
          <a:stretch/>
        </p:blipFill>
        <p:spPr>
          <a:xfrm>
            <a:off x="3886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687320" y="17413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21320" y="1741320"/>
            <a:ext cx="234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imal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ff00">
                <a:alpha val="41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1295280" cy="939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notate mutant pheno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y human disease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16400" y="14968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31080" y="14968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04200" y="14968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telo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5238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2200" y="2446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242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56080" y="1496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0456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3000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3040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323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400" y="19810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231080" y="198108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04560" y="1981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19810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2480" y="1981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56080" y="1969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6400" y="243828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31080" y="2438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04560" y="2438280"/>
            <a:ext cx="22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36840" y="24382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5720" y="2438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2304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57880" y="240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80280" y="14968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80280" y="19810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80280" y="2438280"/>
            <a:ext cx="142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200400" y="5791320"/>
            <a:ext cx="32004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hh</a:t>
            </a:r>
            <a:r>
              <a:rPr b="1" i="1" lang="en-US" sz="24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-/-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holoprosencepha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515680" y="9032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71280" y="9032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96720" y="9032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712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99040" y="9032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1523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38200"/>
            <a:ext cx="215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linical sig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644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0760" y="3168720"/>
            <a:ext cx="348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2-09T19:22:38Z</cp:lastPrinted>
  <dcterms:modified xsi:type="dcterms:W3CDTF">2006-03-03T20:07:56Z</dcterms:modified>
  <cp:revision>123</cp:revision>
  <dc:subject/>
  <dc:title>Ontologies for Gene Expression and Phenotypes</dc:title>
</cp:coreProperties>
</file>